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6F84F-D56F-4D8D-B822-40C4B6198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1C4FE-506F-4535-8CF7-CA8AB9E95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8EE57-FED7-4677-9078-052BEA906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452E4-ED58-4816-865D-2A5498395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D1AC6-CA3A-4F2B-8BD0-F1137D5B0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52022-B816-4BED-B331-0FE438751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51942-9858-450D-8673-019F33AAB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D7A3F-FEEA-4F0C-B28F-9F5FFBB05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57A64-78CB-4E60-8DD1-0E5104E94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B0354-5F1E-46A3-B2D7-1358C3FDB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8121C-3206-4D2F-AAD5-D1362105D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3CA15-69EE-46E4-A66D-AD177209F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07934-32FC-4277-A6E2-A50919CC6E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One way to describe a set of data is to find the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ean, 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or the average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33520" y="350532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26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0000"/>
                </a:solidFill>
                <a:latin typeface="Times New Roman"/>
              </a:rPr>
              <a:t>Step 1: </a:t>
            </a:r>
            <a:r>
              <a:rPr b="0" lang="en-US" sz="29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ff0000"/>
                </a:solidFill>
                <a:latin typeface="Times New Roman"/>
              </a:rPr>
              <a:t>Add the numbers in the set of data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26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0000"/>
                </a:solidFill>
                <a:latin typeface="Times New Roman"/>
              </a:rPr>
              <a:t>Step 2: </a:t>
            </a:r>
            <a:r>
              <a:rPr b="0" lang="en-US" sz="29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ff0000"/>
                </a:solidFill>
                <a:latin typeface="Times New Roman"/>
              </a:rPr>
              <a:t>Divide the sum by the number of </a:t>
            </a:r>
            <a:r>
              <a:rPr b="0" lang="en-US" sz="29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ff0000"/>
                </a:solidFill>
                <a:latin typeface="Times New Roman"/>
              </a:rPr>
              <a:t>addends in the set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Number of Miles Biked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1219320" y="457200"/>
          <a:ext cx="6476760" cy="3105000"/>
        </p:xfrm>
        <a:graphic>
          <a:graphicData uri="http://schemas.openxmlformats.org/drawingml/2006/table">
            <a:tbl>
              <a:tblPr/>
              <a:tblGrid>
                <a:gridCol w="3238560"/>
                <a:gridCol w="32382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 u="sng">
                          <a:solidFill>
                            <a:srgbClr val="ff7612"/>
                          </a:solidFill>
                          <a:uFillTx/>
                          <a:latin typeface="Arial"/>
                        </a:rPr>
                        <a:t>Da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 u="sng">
                          <a:solidFill>
                            <a:srgbClr val="ff7612"/>
                          </a:solidFill>
                          <a:uFillTx/>
                          <a:latin typeface="Arial"/>
                        </a:rPr>
                        <a:t>Number of Mil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Monda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Tuesda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Wednesda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Thursda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Frida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" name=""/>
          <p:cNvSpPr/>
          <p:nvPr/>
        </p:nvSpPr>
        <p:spPr>
          <a:xfrm>
            <a:off x="0" y="3733920"/>
            <a:ext cx="8839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t’s compare </a:t>
            </a:r>
            <a:r>
              <a:rPr b="0" lang="en-US" sz="2600" spc="-1" strike="noStrike">
                <a:solidFill>
                  <a:srgbClr val="333399"/>
                </a:solidFill>
                <a:latin typeface="Arial"/>
              </a:rPr>
              <a:t>Friday’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7612"/>
                </a:solidFill>
                <a:latin typeface="Arial"/>
              </a:rPr>
              <a:t>number of mil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with the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ean, </a:t>
            </a:r>
            <a:r>
              <a:rPr b="1" lang="en-US" sz="2600" spc="-1" strike="noStrike">
                <a:solidFill>
                  <a:srgbClr val="333399"/>
                </a:solidFill>
                <a:latin typeface="Arial"/>
              </a:rPr>
              <a:t>14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5029200"/>
            <a:ext cx="8683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Friday’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7612"/>
                </a:solidFill>
                <a:latin typeface="Arial"/>
              </a:rPr>
              <a:t>number of miles</a:t>
            </a:r>
            <a:r>
              <a:rPr b="1" lang="en-US" sz="2800" spc="-1" strike="noStrike">
                <a:solidFill>
                  <a:srgbClr val="ff7612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bove the avera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 In other words,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Friday’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ore is higher than th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a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-5400" y="4343400"/>
            <a:ext cx="91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Friday’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7612"/>
                </a:solidFill>
                <a:latin typeface="Arial"/>
              </a:rPr>
              <a:t>number of mil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elow or above the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vera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How to </a:t>
            </a:r>
            <a:r>
              <a:rPr b="1" lang="en-US" sz="3800" spc="-1" strike="noStrike" u="sng">
                <a:solidFill>
                  <a:srgbClr val="000000"/>
                </a:solidFill>
                <a:uFillTx/>
                <a:latin typeface="Arial"/>
              </a:rPr>
              <a:t>calculate the mean</a:t>
            </a: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or a given set of data and use to describe a set of data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0" y="3581280"/>
            <a:ext cx="91440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8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tep 1:</a:t>
            </a:r>
            <a:r>
              <a:rPr b="0" lang="en-US" sz="33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3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ff0000"/>
                </a:solidFill>
                <a:latin typeface="Times New Roman"/>
              </a:rPr>
              <a:t>Add the numbers in the set of data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tep 2:</a:t>
            </a:r>
            <a:r>
              <a:rPr b="0" lang="en-US" sz="33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3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ff0000"/>
                </a:solidFill>
                <a:latin typeface="Times New Roman"/>
              </a:rPr>
              <a:t>Divide the sum by the number of </a:t>
            </a:r>
            <a:r>
              <a:rPr b="0" lang="en-US" sz="33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ff0000"/>
                </a:solidFill>
                <a:latin typeface="Times New Roman"/>
              </a:rPr>
              <a:t>addends in the set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tep 3: </a:t>
            </a: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ff0000"/>
                </a:solidFill>
                <a:latin typeface="Times New Roman"/>
              </a:rPr>
              <a:t>Compare desired score to the </a:t>
            </a:r>
            <a:r>
              <a:rPr b="1" lang="en-US" sz="3300" spc="-1" strike="noStrike">
                <a:solidFill>
                  <a:srgbClr val="000000"/>
                </a:solidFill>
                <a:latin typeface="Times New Roman"/>
              </a:rPr>
              <a:t>mean</a:t>
            </a:r>
            <a:r>
              <a:rPr b="0" lang="en-US" sz="3300" spc="-1" strike="noStrike">
                <a:solidFill>
                  <a:srgbClr val="ff0000"/>
                </a:solidFill>
                <a:latin typeface="Times New Roman"/>
              </a:rPr>
              <a:t>, or </a:t>
            </a:r>
            <a:r>
              <a:rPr b="0" lang="en-US" sz="33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ff0000"/>
                </a:solidFill>
                <a:latin typeface="Times New Roman"/>
              </a:rPr>
              <a:t>average score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2280" y="1905120"/>
            <a:ext cx="8599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One way to describe a set of data is to find the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ean, 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or the average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25142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Number of Miles Biked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88390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Arial"/>
              </a:rPr>
              <a:t>These are the distances Tanya biked last week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Arial"/>
              </a:rPr>
              <a:t>What is the 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mean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400" spc="-1" strike="noStrike">
                <a:solidFill>
                  <a:srgbClr val="ff0000"/>
                </a:solidFill>
                <a:latin typeface="Arial"/>
              </a:rPr>
              <a:t>(average)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400" spc="-1" strike="noStrike">
                <a:solidFill>
                  <a:srgbClr val="333399"/>
                </a:solidFill>
                <a:latin typeface="Arial"/>
              </a:rPr>
              <a:t>distance she biked per day?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1295280" y="2895480"/>
          <a:ext cx="6172200" cy="3302280"/>
        </p:xfrm>
        <a:graphic>
          <a:graphicData uri="http://schemas.openxmlformats.org/drawingml/2006/table">
            <a:tbl>
              <a:tblPr/>
              <a:tblGrid>
                <a:gridCol w="3086280"/>
                <a:gridCol w="3085920"/>
              </a:tblGrid>
              <a:tr h="551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 u="sng">
                          <a:solidFill>
                            <a:srgbClr val="ff7612"/>
                          </a:solidFill>
                          <a:uFillTx/>
                          <a:latin typeface="Arial"/>
                        </a:rPr>
                        <a:t>Da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 u="sng">
                          <a:solidFill>
                            <a:srgbClr val="ff7612"/>
                          </a:solidFill>
                          <a:uFillTx/>
                          <a:latin typeface="Arial"/>
                        </a:rPr>
                        <a:t>Number of Mil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Monda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Tuesda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Wednesda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Thursda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Frida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Step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dd the number of mi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25142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Number of Miles Biked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88390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Arial"/>
              </a:rPr>
              <a:t>These are the distances Tanya biked last week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Arial"/>
              </a:rPr>
              <a:t>What is the 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mean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400" spc="-1" strike="noStrike">
                <a:solidFill>
                  <a:srgbClr val="ff0000"/>
                </a:solidFill>
                <a:latin typeface="Arial"/>
              </a:rPr>
              <a:t>(average)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400" spc="-1" strike="noStrike">
                <a:solidFill>
                  <a:srgbClr val="333399"/>
                </a:solidFill>
                <a:latin typeface="Arial"/>
              </a:rPr>
              <a:t>distance she biked per day?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295280" y="2895480"/>
          <a:ext cx="6172200" cy="3302280"/>
        </p:xfrm>
        <a:graphic>
          <a:graphicData uri="http://schemas.openxmlformats.org/drawingml/2006/table">
            <a:tbl>
              <a:tblPr/>
              <a:tblGrid>
                <a:gridCol w="3086280"/>
                <a:gridCol w="3085920"/>
              </a:tblGrid>
              <a:tr h="551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 u="sng">
                          <a:solidFill>
                            <a:srgbClr val="ff7612"/>
                          </a:solidFill>
                          <a:uFillTx/>
                          <a:latin typeface="Arial"/>
                        </a:rPr>
                        <a:t>Da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 u="sng">
                          <a:solidFill>
                            <a:srgbClr val="ff7612"/>
                          </a:solidFill>
                          <a:uFillTx/>
                          <a:latin typeface="Arial"/>
                        </a:rPr>
                        <a:t>Number of Mil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Monda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Tuesda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Wednesda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Thursda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Frida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Step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dd the number of mi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066680" y="3629160"/>
            <a:ext cx="6629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5+12+14+12+17=7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Step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Divide by the numbers of day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25142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Number of Miles Biked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88390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Arial"/>
              </a:rPr>
              <a:t>These are the distances Tanya biked last week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Arial"/>
              </a:rPr>
              <a:t>What is the 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mean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400" spc="-1" strike="noStrike">
                <a:solidFill>
                  <a:srgbClr val="ff0000"/>
                </a:solidFill>
                <a:latin typeface="Arial"/>
              </a:rPr>
              <a:t>(average)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400" spc="-1" strike="noStrike">
                <a:solidFill>
                  <a:srgbClr val="333399"/>
                </a:solidFill>
                <a:latin typeface="Arial"/>
              </a:rPr>
              <a:t>distance she biked per day?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1295280" y="2895480"/>
          <a:ext cx="6172200" cy="3302280"/>
        </p:xfrm>
        <a:graphic>
          <a:graphicData uri="http://schemas.openxmlformats.org/drawingml/2006/table">
            <a:tbl>
              <a:tblPr/>
              <a:tblGrid>
                <a:gridCol w="3086280"/>
                <a:gridCol w="3085920"/>
              </a:tblGrid>
              <a:tr h="551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 u="sng">
                          <a:solidFill>
                            <a:srgbClr val="ff7612"/>
                          </a:solidFill>
                          <a:uFillTx/>
                          <a:latin typeface="Arial"/>
                        </a:rPr>
                        <a:t>Da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 u="sng">
                          <a:solidFill>
                            <a:srgbClr val="ff7612"/>
                          </a:solidFill>
                          <a:uFillTx/>
                          <a:latin typeface="Arial"/>
                        </a:rPr>
                        <a:t>Number of Mil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Monda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Tuesda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Wednesda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Thursda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Frida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Step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Divide by the numbers of day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523880" y="3276720"/>
            <a:ext cx="306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0 / 5 = 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16761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Number of Miles Biked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88390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Arial"/>
              </a:rPr>
              <a:t>These are the distances Tanya biked last week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Arial"/>
              </a:rPr>
              <a:t>What is the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ean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(average)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333399"/>
                </a:solidFill>
                <a:latin typeface="Arial"/>
              </a:rPr>
              <a:t>distance she biked per day?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1219320" y="1905120"/>
          <a:ext cx="6476760" cy="3105000"/>
        </p:xfrm>
        <a:graphic>
          <a:graphicData uri="http://schemas.openxmlformats.org/drawingml/2006/table">
            <a:tbl>
              <a:tblPr/>
              <a:tblGrid>
                <a:gridCol w="3238560"/>
                <a:gridCol w="32382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 u="sng">
                          <a:solidFill>
                            <a:srgbClr val="ff7612"/>
                          </a:solidFill>
                          <a:uFillTx/>
                          <a:latin typeface="Arial"/>
                        </a:rPr>
                        <a:t>Da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 u="sng">
                          <a:solidFill>
                            <a:srgbClr val="ff7612"/>
                          </a:solidFill>
                          <a:uFillTx/>
                          <a:latin typeface="Arial"/>
                        </a:rPr>
                        <a:t>Number of Mil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Monda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Tuesda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Wednesda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Thursda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Frida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5" name=""/>
          <p:cNvSpPr/>
          <p:nvPr/>
        </p:nvSpPr>
        <p:spPr>
          <a:xfrm>
            <a:off x="152280" y="5410080"/>
            <a:ext cx="82105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Arial"/>
              </a:rPr>
              <a:t>The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ean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(average)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333399"/>
                </a:solidFill>
                <a:latin typeface="Arial"/>
              </a:rPr>
              <a:t>number of miles per day is 14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1T17:15:57Z</dcterms:created>
  <dc:creator>Office 2004 Test Drive User</dc:creator>
  <dc:description/>
  <dc:language>en-US</dc:language>
  <cp:lastModifiedBy>Office 2004 Test Drive User</cp:lastModifiedBy>
  <dcterms:modified xsi:type="dcterms:W3CDTF">2008-10-05T15:56:03Z</dcterms:modified>
  <cp:revision>8</cp:revision>
  <dc:subject/>
  <dc:title>Line Graph  -uses points connected by line segments to show data - shows how data change over time   </dc:title>
</cp:coreProperties>
</file>